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15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5.jpeg" ContentType="image/jpeg"/>
  <Override PartName="/ppt/media/image6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48F0087-C38B-4021-9EDB-1C8832081A52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F3A9619-05C6-4408-ADA2-10C9293E8570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78CE83F-82E4-48FA-B4D3-713752BD58C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to modify this powerpoint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imple diffusion vs. facilitated diffu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cell membrane stuf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electively permeabl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define equilibrium and concentration gradi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define isotonic, hypertonic, hypot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active 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 jenn nemec’s chart to go along with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1B2C45F-6130-4A63-B49D-B64AFB7835D9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00FC044-59E7-4497-AD13-1FDA0410A828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8A720CB-9319-47F5-812E-71385772A3B7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3264891-E2C5-4517-A6A5-A6E835EC61B6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46AD445-0CE5-410C-9150-74BCEE7D0F40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461DF0D-48FA-42B1-84EA-9AE46BE8ADA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D1D2660-2EDA-4969-86CC-1B5AA1253D67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83BCF4B-4BEE-4B4D-99C4-92CCFCD4C6FC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EF63302-BD58-43F2-8D56-0B283538F5DE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9D1A695-41C4-4842-B815-119CC72CCEA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7B35569-E9CD-42AD-9435-9305EBAE7C5A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F851CD4-502A-4F35-8A50-958A41CDEDBE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F29664F-BF38-49AB-8F8A-9013DF8AB8C6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DEAAED3-FEE0-4495-8872-4A18F01D0524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2304416-D775-40F7-9370-F3ADC01B24D9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12498E0-60DF-4DC4-BAEC-8C71C1E9AF48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E0D-E319-40C1-804B-A4D939A9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501-C10F-4CF3-B01C-57F0EF2E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C41-E262-4A24-9180-49CC99DB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336-235F-4DF8-AAAD-296F987F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AA9-8DE0-402F-86D2-20638B1F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F78-5958-4223-9490-AEA704DE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CF6-BFC3-4DC5-98C3-CA261BF2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E2F-F7C1-49F7-9D3E-D2C80CF1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A9D-5316-4857-9E07-04951CA8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4B6-934B-4B18-9F88-71D55F0B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D09-F391-4711-992F-B12EDCD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FF1-B638-459F-BEA7-72E33DF3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F159-6B63-42CA-BB15-33A46C9BF7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../../../Downloaded%20Videos/Diffusion.av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../../Downloaded%20Videos/facilitated%20diffusion.avi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hyperlink" Target="file:///../../../Downloaded%20Videos/Osmosis.av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../../../Downloaded%20Videos/Onion%20Cells%20Plasmolysis.av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hyperlink" Target="file:///../../../Downloaded%20Videos/Fluid%20mosiac%20model.avi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8E5D-94F6-449E-9575-A57F81BF14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Trans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 of the Cell Membr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what enters and leaves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protection and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Transition…AHHHH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seem completely rando…but I promise the dots will connect late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olution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 of sol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giv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me of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in concentration over a distance is calle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 gradi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6A3B-F1DE-42E2-9D4A-F1E186C8D91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mple Diff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Arial"/>
              </a:rPr>
              <a:t>Descrip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move from area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GH to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entr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ey are go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W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NTRATION GRADI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 (no energy require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1028" descr="diffusion-animated[1]"/>
          <p:cNvPicPr/>
          <p:nvPr/>
        </p:nvPicPr>
        <p:blipFill>
          <a:blip r:embed="rId1"/>
          <a:stretch/>
        </p:blipFill>
        <p:spPr>
          <a:xfrm>
            <a:off x="4876920" y="2362320"/>
            <a:ext cx="38192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5A10-975C-452E-9628-047FD4D4834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4" descr="FG05_04"/>
          <p:cNvPicPr/>
          <p:nvPr/>
        </p:nvPicPr>
        <p:blipFill>
          <a:blip r:embed="rId1"/>
          <a:srcRect l="4618" t="0" r="0" b="7397"/>
          <a:stretch/>
        </p:blipFill>
        <p:spPr>
          <a:xfrm>
            <a:off x="380880" y="45720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610280" y="5761080"/>
            <a:ext cx="576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..\..\..\Downloaded Videos\Diffusion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mple Diffusion of a Solute Across a Membra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D3C3-F5E1-4ECF-9A3F-0F90C0D2A2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6732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n all solutes cross the membrane by simple diffus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embran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electively permeable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means only certain solutes (typically small ones) can pass across by simple diff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olution? – Channel Protein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0AB6-F9DB-4B05-B550-1313E1230D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Description: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usion of certain molecules through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electively permeable membr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made possible 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rotein chann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ASS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OW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di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http://bio1151b.nicerweb.com/Locked/media/ch07/07_15FacilitatedDiffusionA.jpg"/>
          <p:cNvPicPr/>
          <p:nvPr/>
        </p:nvPicPr>
        <p:blipFill>
          <a:blip r:embed="rId1"/>
          <a:stretch/>
        </p:blipFill>
        <p:spPr>
          <a:xfrm>
            <a:off x="3200400" y="4114800"/>
            <a:ext cx="5495760" cy="2378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41360" y="4160880"/>
            <a:ext cx="237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..\..\..\Downloaded Videos\facilitated diffusion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9C17-A317-4EA7-B9B6-8780F699A8A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Description: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usion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cross a selectively permeable membra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ASS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OWN GRADI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hat is, WATER moves down its gradien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3" descr="osmosis"/>
          <p:cNvPicPr/>
          <p:nvPr/>
        </p:nvPicPr>
        <p:blipFill>
          <a:blip r:embed="rId1"/>
          <a:stretch/>
        </p:blipFill>
        <p:spPr>
          <a:xfrm>
            <a:off x="4419720" y="3581280"/>
            <a:ext cx="4038480" cy="3054600"/>
          </a:xfrm>
          <a:prstGeom prst="rect">
            <a:avLst/>
          </a:prstGeom>
          <a:ln w="0">
            <a:noFill/>
          </a:ln>
        </p:spPr>
      </p:pic>
      <p:sp>
        <p:nvSpPr>
          <p:cNvPr id="112" name="Line 5"/>
          <p:cNvSpPr/>
          <p:nvPr/>
        </p:nvSpPr>
        <p:spPr>
          <a:xfrm>
            <a:off x="5181480" y="51055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93640" y="4008600"/>
            <a:ext cx="329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..\..\..\Downloaded Videos\Osmosis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in Isotonic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762120" y="1447920"/>
            <a:ext cx="5790960" cy="40384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066680" y="1828800"/>
            <a:ext cx="2133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819520" y="38098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914400" y="5562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rection of water move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14300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is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QUILIBR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160020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3505320" y="1752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6553080" y="236232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outside the cell has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AME solute (and water) concent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he cell itsel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 Understan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the end of today’s lesson, you should be able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swer the following ques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the cell membrane and what do they 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“Fluid Mosaic Model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rocesses of diffusion, osmosis, facilitated diffusion, and active transpo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CC3D-81E6-480A-B964-DAECE2C740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in Hypotonic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28600" y="1447920"/>
            <a:ext cx="5791320" cy="40384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16765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43828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57200" y="1676520"/>
            <a:ext cx="2133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solu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209680" y="365760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066680" y="5867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rection of water move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2971800" y="1752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6095880" y="1828800"/>
            <a:ext cx="243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outside the cell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OWER solute (HIGHER water) concent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the cell itsel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81CC-9DED-4A6F-9DC7-EC140C71E18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in Hypertonic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28600" y="1523880"/>
            <a:ext cx="5791320" cy="40388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1828800" y="2743200"/>
            <a:ext cx="304812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6880" y="3124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0880" y="1828800"/>
            <a:ext cx="2133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% solu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5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438280" y="38098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5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914400" y="5791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rection of water move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2895480" y="1828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6248520" y="190512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outside the cell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IGHER solute (LOWER water) concent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the cell itsel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10" descr="15_009[1]"/>
          <p:cNvPicPr/>
          <p:nvPr/>
        </p:nvPicPr>
        <p:blipFill>
          <a:blip r:embed="rId1"/>
          <a:srcRect l="0" t="42671" r="0" b="21332"/>
          <a:stretch/>
        </p:blipFill>
        <p:spPr>
          <a:xfrm>
            <a:off x="609480" y="609480"/>
            <a:ext cx="8001000" cy="2057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1066680" y="2895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990720" y="4038480"/>
            <a:ext cx="2971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T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(equal amounts entering &amp; leaving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191120" y="2971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3886200" y="2971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1911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Burs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6629400" y="2819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477120" y="4572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hrink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2438280" y="34290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5029200" y="3886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Line 21"/>
          <p:cNvSpPr/>
          <p:nvPr/>
        </p:nvSpPr>
        <p:spPr>
          <a:xfrm>
            <a:off x="7467480" y="37339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6477120" y="5105520"/>
            <a:ext cx="222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..\..\..\Downloaded Videos\Onion Cells Plasmolysis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4098960" y="5151600"/>
            <a:ext cx="1616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\..\..\Downloaded Videos\Red Blood Cells in Hypotonic Solution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6477120" y="5943600"/>
            <a:ext cx="237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\..\..\Downloaded Videos\Red Blood Cells in a Hypertonic Solution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7D22-E127-43EE-B681-0B2D6D8AA4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mosis in Red Blood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3" descr="image004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35845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762120" y="56386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657600" y="5715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00800" y="5638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 in Plant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8077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99"/>
                </a:solidFill>
                <a:latin typeface="Arial"/>
              </a:rPr>
              <a:t>Description</a:t>
            </a:r>
            <a:r>
              <a:rPr b="0" lang="en-US" sz="4000" spc="-1" strike="noStrike">
                <a:solidFill>
                  <a:srgbClr val="262699"/>
                </a:solidFill>
                <a:latin typeface="Arial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ement of materials from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IGH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cess (uses energy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P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ntration Gradi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523960" cy="47246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ctive Trans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olecular Pump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400800" y="495288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457200" y="1447920"/>
            <a:ext cx="487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Molecular pump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are membrane proteins that use energy from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A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o move molecules across cell membranes.  (Each pump moves one type of molecul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669960" y="598968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.\..\..\Downloaded Videos\Active Transport.av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docytosis vs. Exocyto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ndocytos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king large amounts of material into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xocytos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nding large amounts of material out of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7F8B-8E71-469D-9614-DBA881DD87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docytosi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hagocytosis &amp; Pinocyto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380880" y="1447920"/>
            <a:ext cx="44960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hagocytos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embrane folds to enclose solid particle (cell eating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inocytos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e membrane folds to enclose liquid with dissolved materials (cell drinking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29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4383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0" y="837720"/>
            <a:ext cx="3581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endocytosis, the membrane pinches in to form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esi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sicle may later join with a lysosome so that particles can be “digested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4A04-86A7-4430-BF19-6631AD2469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3438360" cy="5219640"/>
          </a:xfrm>
          <a:prstGeom prst="rect">
            <a:avLst/>
          </a:prstGeom>
          <a:ln w="0">
            <a:noFill/>
          </a:ln>
        </p:spPr>
      </p:pic>
      <p:cxnSp>
        <p:nvCxnSpPr>
          <p:cNvPr id="195" name="Straight Arrow Connector 7"/>
          <p:cNvCxnSpPr/>
          <p:nvPr/>
        </p:nvCxnSpPr>
        <p:spPr>
          <a:xfrm flipH="1" flipV="1">
            <a:off x="6705000" y="2361600"/>
            <a:ext cx="1067400" cy="114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Straight Arrow Connector 8"/>
          <p:cNvCxnSpPr/>
          <p:nvPr/>
        </p:nvCxnSpPr>
        <p:spPr>
          <a:xfrm flipH="1">
            <a:off x="6933960" y="4038480"/>
            <a:ext cx="762480" cy="99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Box 12"/>
          <p:cNvSpPr/>
          <p:nvPr/>
        </p:nvSpPr>
        <p:spPr>
          <a:xfrm>
            <a:off x="7697520" y="358128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sic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BD9D-1782-4291-92F6-FD41C1C7940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" name="Picture 2" descr="http://library.thinkquest.org/C004535/media/cell_membrane.gif"/>
          <p:cNvPicPr/>
          <p:nvPr/>
        </p:nvPicPr>
        <p:blipFill>
          <a:blip r:embed="rId1"/>
          <a:stretch/>
        </p:blipFill>
        <p:spPr>
          <a:xfrm>
            <a:off x="4495680" y="1905120"/>
            <a:ext cx="4496040" cy="3714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152280" y="1295280"/>
            <a:ext cx="426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ulates passage of materials into and out of the 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s of the membrane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) lipid bilayer (2 layer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) protei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 cholestero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 carbohydrate chai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5124600" y="1108080"/>
            <a:ext cx="4019400" cy="5257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6"/>
          <p:cNvSpPr/>
          <p:nvPr/>
        </p:nvSpPr>
        <p:spPr>
          <a:xfrm>
            <a:off x="4385160" y="121140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47"/>
          <p:cNvSpPr/>
          <p:nvPr/>
        </p:nvSpPr>
        <p:spPr>
          <a:xfrm>
            <a:off x="152280" y="1523880"/>
            <a:ext cx="487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ducts of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are packaged i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vesicl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olg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released at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ell membra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65040" y="446580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.\..\..\Downloaded Videos\Endocytosis &amp; Exocytosis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Membrane and Homeosta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from Characteristics of Life…what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omeost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lp organisms to maintain homeostasis?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pid Bilay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de of 2 sheets of phospholipids, a type of lipid with a head and 2 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drophilic (water loving) he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drophobic (water fearing) t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1E5B-CA23-48B8-8AC4-A81C1C3E73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2" name="Picture 2" descr="http://chemwiki.ucdavis.edu/@api/deki/files/5716/=phospholipid.jpg"/>
          <p:cNvPicPr/>
          <p:nvPr/>
        </p:nvPicPr>
        <p:blipFill>
          <a:blip r:embed="rId1"/>
          <a:stretch/>
        </p:blipFill>
        <p:spPr>
          <a:xfrm>
            <a:off x="5257800" y="2286000"/>
            <a:ext cx="35053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y do the phospholipids arrange themselves in a bilayer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D6E4-3FA0-46D4-A32D-DAB169CCC7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2" descr="http://d2o7bfz2il9cb7.cloudfront.net/main-qimg-59ecc5a50b981e1bc2f85632b5e94cce"/>
          <p:cNvPicPr/>
          <p:nvPr/>
        </p:nvPicPr>
        <p:blipFill>
          <a:blip r:embed="rId1"/>
          <a:stretch/>
        </p:blipFill>
        <p:spPr>
          <a:xfrm>
            <a:off x="1828800" y="1905120"/>
            <a:ext cx="51814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240"/>
            <a:ext cx="5105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mbrane Proteins: Act as channels for large particles to enter and leave the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uid-Mosaic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describes the flexibility of the lipid bilayer with a mosaic of proteins and other molec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2220-9CC5-417C-8085-7A1474FF81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9" name="Picture 2" descr="http://www.biologycorner.com/resources/cell_membrane_channel1.jpg"/>
          <p:cNvPicPr/>
          <p:nvPr/>
        </p:nvPicPr>
        <p:blipFill>
          <a:blip r:embed="rId1"/>
          <a:stretch/>
        </p:blipFill>
        <p:spPr>
          <a:xfrm>
            <a:off x="6172200" y="533520"/>
            <a:ext cx="2571840" cy="2400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library.thinkquest.org/C004535/media/cell_membrane.gif"/>
          <p:cNvPicPr/>
          <p:nvPr/>
        </p:nvPicPr>
        <p:blipFill>
          <a:blip r:embed="rId2"/>
          <a:stretch/>
        </p:blipFill>
        <p:spPr>
          <a:xfrm>
            <a:off x="5334120" y="3276720"/>
            <a:ext cx="3476520" cy="2647800"/>
          </a:xfrm>
          <a:prstGeom prst="rect">
            <a:avLst/>
          </a:prstGeom>
          <a:ln w="0">
            <a:noFill/>
          </a:ln>
        </p:spPr>
      </p:pic>
      <p:sp>
        <p:nvSpPr>
          <p:cNvPr id="71" name="Oval 9"/>
          <p:cNvSpPr/>
          <p:nvPr/>
        </p:nvSpPr>
        <p:spPr>
          <a:xfrm>
            <a:off x="5715000" y="4191120"/>
            <a:ext cx="9144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6858000" y="1143000"/>
            <a:ext cx="1143000" cy="1752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Straight Connector 12"/>
          <p:cNvSpPr/>
          <p:nvPr/>
        </p:nvSpPr>
        <p:spPr>
          <a:xfrm flipV="1">
            <a:off x="6172200" y="2743200"/>
            <a:ext cx="9907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4" name="Picture 4" descr="http://www.charlsiekelly.com/images/fish_mosaic_sm.jpg"/>
          <p:cNvPicPr/>
          <p:nvPr/>
        </p:nvPicPr>
        <p:blipFill>
          <a:blip r:embed="rId3"/>
          <a:stretch/>
        </p:blipFill>
        <p:spPr>
          <a:xfrm>
            <a:off x="533520" y="3581280"/>
            <a:ext cx="3276360" cy="2459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3870360" y="6066000"/>
            <a:ext cx="3825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..\..\..\Downloaded Videos\Fluid mosiac model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Cha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parts of molecules to determine what molecules can be brought into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attached to proteins or phospholip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 and Key Fi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40766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el the Parts of the Membrane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olipi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 Ch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" descr="http://library.thinkquest.org/C004535/media/cell_membrane.gif"/>
          <p:cNvPicPr/>
          <p:nvPr/>
        </p:nvPicPr>
        <p:blipFill>
          <a:blip r:embed="rId1"/>
          <a:stretch/>
        </p:blipFill>
        <p:spPr>
          <a:xfrm>
            <a:off x="2514600" y="3276720"/>
            <a:ext cx="647712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23:07:55Z</dcterms:created>
  <dc:creator>Cheryl Massengale</dc:creator>
  <dc:description/>
  <dc:language>en-US</dc:language>
  <cp:lastModifiedBy>Windows User</cp:lastModifiedBy>
  <cp:lastPrinted>2005-11-21T16:13:08Z</cp:lastPrinted>
  <dcterms:modified xsi:type="dcterms:W3CDTF">2014-11-05T19:24:53Z</dcterms:modified>
  <cp:revision>161</cp:revision>
  <dc:subject/>
  <dc:title>Plasma Membrane</dc:title>
</cp:coreProperties>
</file>